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3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ftr" idx="3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 type="sldNum" idx="3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C7AB89-9614-4B49-BEBF-DEE1F8A7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766F02-2684-462B-A731-7E85820A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DAE3A7-544F-408A-949C-AC2AFAFE5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9C5884-C50A-4424-BA58-CF6C9EA16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A5C6CF-B644-4871-A72B-D7BE5AA34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42D397-405A-401A-96E4-F6D677C50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E9E83-898F-413D-B8A4-DC86B14A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FF4BC-1069-4C40-ADC0-3FEFC61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D422-1BAE-4364-AB82-783652A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B36CB-BDD3-4D02-966E-4ECB94D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3529-AD77-4338-9AB7-8BA5EB54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85FDF-9CEC-4863-9510-A3D6834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19F54-D53C-42C5-BCA4-B12179C7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199C-5F90-4376-A29F-69BE3DFE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7391-7098-4601-A195-2DB8895A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3350D-D952-4EA7-A953-BD9FED0D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43611-1066-48FD-98D6-EBA556C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9B370-81C1-48A4-873C-49529A31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F0CF-E911-490D-A5A0-C51DA240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5B86A-3944-4CE8-8837-60ACB5C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199B-9E18-4190-8F5C-867EE9A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001F4-5B36-4CE3-BBA0-D9D7943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1B325-8469-4804-BC95-500BF138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2BFBA-F645-4251-9E3D-C652395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88A42-6FD4-4C00-B465-123461D3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60398-D02E-4554-AB87-037C9785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F50C7-E13D-4B8A-B686-A3C39F01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876BC-E844-4217-B8A7-4373DD46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F6573-0978-4198-ADFF-DE3C369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54521-022E-4225-971B-625C109A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BD075-019F-492E-969F-1A7C0003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64E4B-E79F-4CB4-AADF-65C09341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666C3-76FC-4B7C-B811-DB7D5403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C23A1-1511-4227-A095-AEC7113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462C4-AFE7-402F-B563-DDDA32B0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0E579-E6AF-4E97-9BF3-494700C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84B4F-3ECC-4C9E-A8A9-603B96E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EF8FF-8177-42E8-9578-F0ECC91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B7D85-63CB-431F-AD46-C8BB3A01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9E488-A6F4-4E78-AB8F-5BB064D7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608AA-C47F-4581-BEBC-E71049F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8C97D-A8DB-4787-8E7E-0E68CC3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36B59-FFC6-44D6-A41B-2926690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FBFBB-60BC-4A14-86E1-5E2C99CB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33481-2A1D-4D1A-BDE9-0843D16A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74675-A766-417A-AB74-0A96A66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57F3F-28B8-4558-834E-93EEF97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5D3CF-939F-45AC-9C89-383ED74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5C618-0581-48F4-A209-2D56E77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20C22-7B0E-4389-AD86-D710121C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157C0-C6F9-42D1-9A37-4669EA97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580-2AEE-4AB7-A955-33A47BC0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B57-11F4-450F-AC42-483FF6CE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A8A-B4ED-468F-BD2E-20483918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EF8-7DDA-47FD-87E1-746F22E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A97-FA8D-4F48-B1B8-0AF391E9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8F7-65C0-44AD-A83E-81ED069D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D32-6358-4BB5-A420-F40A0F57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65B-57E8-43C6-9D21-400291DB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EBA-F52E-4E65-96AE-223CFE29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3DC-C8F3-4587-84F3-E6B8F89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9B4-5B96-42C3-82BE-FD7F785D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3CE-A23D-4311-9567-53852140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933D-9196-47B8-89C1-F53E33B1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7152-1205-4D43-BE78-694B934E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58DD-912F-4137-8E30-E30B1A8F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FE85-11F5-4610-8172-4E610F73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4033-D658-4FBC-ADF0-B1B2FC95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A2B6-3989-4A8D-A7D8-BA558E1B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F0D-5D3F-430D-95B3-CC1E976E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B7DA-2920-40EF-9713-7EB35642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ECB5-D4CA-4297-A356-DD3CFAB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ADAC-9B6A-4EDB-B1BE-AEA7B2F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B962-DEEA-4CD2-8496-C20F1EC5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36BA-3D75-4882-B1F3-682AE730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593F-4D3E-4218-B1A6-11CBB1C7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7DCE-1CDB-400F-AE6A-CD1BD50B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1288-489E-4B72-B349-0491DDA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5BF2-8F9E-4896-AF0D-EFE2A4F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5763-B80C-4DE4-8B52-02BE8549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1C03-7D2A-4BA7-8562-294F1AF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A742-60CB-418E-8060-3AFC62D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7F95-99C0-4C45-8A2D-8986F13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5FDE8-4764-4C78-83DD-8521220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A7EC-3CA4-49A1-8A35-1468C071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FFFF-9140-49A2-8D43-972105B4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DE9E-B864-417D-8F6A-5628E1EC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1AB6-9079-449D-90FC-F606ED32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5756-B2D9-46AD-8B34-DF9733C2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C2EA-E329-430A-88DC-E3EB3193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94DD-C13D-45CF-B9AE-B9500FC3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BE36-D86D-408C-BC8B-5F01C342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BB1C-45C6-4ED8-9EC0-FC0ADAE5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2D52-31DD-4664-BC2C-90861FA2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FEE3-08CD-481E-8135-EF7F23F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B7DF-3E7D-4BF1-AF04-F0D1958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8E61E-A477-45A8-A1B5-24711776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12F4-07EB-4C6A-B682-79017497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78EE-A661-4162-9958-ECFEFF0B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2D20-5FEE-4DD3-8A43-A43AEA5E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5455-92AC-4817-BE89-49D35EF8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E41A-B844-4177-9E31-5288E64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F16EE-C312-4734-9912-F3560BAE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67C5-E102-43C5-ABFE-41B403AF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E55F-92B0-47C2-842E-A08F89E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5BFF-E349-4563-8ECD-C6636C4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D45F-AAB9-4391-8034-800A846D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AB99-33B7-48B4-9EA3-AD4EDC3B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58E3-0CA6-4630-80E2-61753067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532ED-875A-4DFB-BC8D-3D58BCA5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7B9D-7F5C-4A20-8337-0DC37A52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A4A6-EC5B-4828-93CC-D32531B0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E708C-EE02-4370-B0D6-F3402FA4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8B37-FBF6-471C-BE90-E27D4C9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9AA2-3594-47A7-A4AA-4CD3BCBD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27F8-DB6F-4CA8-AE71-7E21B91C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D311-B5F3-43E1-A7DD-5E2B0985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EC07-6FC2-4CF9-9AD9-355C53C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E605-1FB1-4E7B-8E24-159D293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A82EC-8C9B-4A42-8DED-68C61E5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2063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EE0F-7FDE-4FF2-9687-B5C07AFB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890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6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890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CF21C-20F9-405D-9FF5-4C7D39AA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834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620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20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834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620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3F01-A993-4795-A13C-8CC4F8B1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411E9-1E8A-460C-8627-5A3EB32C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DDB8-00A6-46E7-BC4C-4FD0E23A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66103-52AB-45DA-85BC-969C94ED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F9E1E687-5789-457E-911F-CB67B93FE48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8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0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0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66E6A943-5347-4D8D-85B3-77C8262C63DE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B9D-DB29-4A47-9F07-2D11C7BEB8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7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67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0582C1B0-EC67-4EED-83D1-D13AB7EC9827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98B5-87F8-40FD-8F69-96F6544CDD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4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74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B2447EB-968A-406A-BA0D-B2390E332E4F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EAC-8FE7-4DBE-8F3F-3EB831385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2720"/>
            <a:chOff x="-3600" y="2438280"/>
            <a:chExt cx="9147240" cy="106272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8960"/>
              <a:ext cx="9146880" cy="1022040"/>
              <a:chOff x="-3240" y="2478960"/>
              <a:chExt cx="9146880" cy="102204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95720" y="-158292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77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664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8320" y="2797560"/>
                <a:ext cx="976680" cy="4042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101000" y="27432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53440" y="268920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9120" y="275616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81960" y="2635560"/>
                <a:ext cx="976680" cy="6681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600360" y="263376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54920" y="2789640"/>
                <a:ext cx="976680" cy="4046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5800" y="273528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611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9960" y="272376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707120" y="264240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25520" y="26416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904320" y="27806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896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110520" y="268344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8120" y="272376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5800" cy="645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191400"/>
              <a:ext cx="9144360" cy="29592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685800" y="6019920"/>
            <a:ext cx="1066680" cy="59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934320" y="6248520"/>
            <a:ext cx="1690560" cy="311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3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3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CFE410B-6C51-46B3-AE34-50B19AAF0843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BB65-9E26-4D83-949B-5AFD9866D2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19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CA2F99A1-ACF0-4726-805E-57FCF8FE557B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79A9-49F0-40A2-901D-F294E0206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66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67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29C16A21-8A16-4641-9451-1A1AA437076D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A6CC-2777-4EA7-AC69-91FE754C3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34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335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5AA144A-41A0-4BBF-B8DD-088FD67A9F3A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6903-3792-4ECB-9DC2-620452FAD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02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03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1864AB55-CC92-42B0-BA4B-E005ADC2B4A6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71AE-B509-47C5-8A43-F66D941B92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70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471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7534A656-DD99-4DF2-AC45-3CB0AB9EAAB0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5219-607C-436C-A7A4-257946DF93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38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539" name="Freeform 4"/>
              <p:cNvSpPr/>
              <p:nvPr/>
            </p:nvSpPr>
            <p:spPr>
              <a:xfrm flipH="1">
                <a:off x="100440" y="-4680"/>
                <a:ext cx="932760" cy="6832800"/>
              </a:xfrm>
              <a:custGeom>
                <a:avLst/>
                <a:gdLst>
                  <a:gd name="textAreaLeft" fmla="*/ -360 w 932760"/>
                  <a:gd name="textAreaRight" fmla="*/ 932760 w 93276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5"/>
              <p:cNvSpPr/>
              <p:nvPr/>
            </p:nvSpPr>
            <p:spPr>
              <a:xfrm flipH="1">
                <a:off x="96480" y="16970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6"/>
              <p:cNvSpPr/>
              <p:nvPr/>
            </p:nvSpPr>
            <p:spPr>
              <a:xfrm flipH="1">
                <a:off x="120600" y="125244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7"/>
              <p:cNvSpPr/>
              <p:nvPr/>
            </p:nvSpPr>
            <p:spPr>
              <a:xfrm flipH="1">
                <a:off x="120600" y="117000"/>
                <a:ext cx="933120" cy="302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8"/>
              <p:cNvSpPr/>
              <p:nvPr/>
            </p:nvSpPr>
            <p:spPr>
              <a:xfrm flipH="1">
                <a:off x="96480" y="989640"/>
                <a:ext cx="933120" cy="348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"/>
              <p:cNvSpPr/>
              <p:nvPr/>
            </p:nvSpPr>
            <p:spPr>
              <a:xfrm flipH="1">
                <a:off x="98280" y="660240"/>
                <a:ext cx="933120" cy="4327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10"/>
              <p:cNvSpPr/>
              <p:nvPr/>
            </p:nvSpPr>
            <p:spPr>
              <a:xfrm flipH="1">
                <a:off x="99360" y="35280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11"/>
              <p:cNvSpPr/>
              <p:nvPr/>
            </p:nvSpPr>
            <p:spPr>
              <a:xfrm flipH="1">
                <a:off x="65160" y="3892320"/>
                <a:ext cx="933120" cy="4993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12"/>
              <p:cNvSpPr/>
              <p:nvPr/>
            </p:nvSpPr>
            <p:spPr>
              <a:xfrm flipH="1">
                <a:off x="88920" y="3536640"/>
                <a:ext cx="933120" cy="50076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 flipH="1">
                <a:off x="88920" y="2397600"/>
                <a:ext cx="933120" cy="30420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 flipH="1">
                <a:off x="88920" y="3209760"/>
                <a:ext cx="933120" cy="347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 flipH="1">
                <a:off x="88920" y="2931480"/>
                <a:ext cx="933120" cy="427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 flipH="1">
                <a:off x="88560" y="2596680"/>
                <a:ext cx="945000" cy="37584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 flipH="1">
                <a:off x="48600" y="4924080"/>
                <a:ext cx="933120" cy="49968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8"/>
              <p:cNvSpPr/>
              <p:nvPr/>
            </p:nvSpPr>
            <p:spPr>
              <a:xfrm flipH="1">
                <a:off x="72720" y="4490280"/>
                <a:ext cx="933120" cy="5029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9"/>
              <p:cNvSpPr/>
              <p:nvPr/>
            </p:nvSpPr>
            <p:spPr>
              <a:xfrm flipH="1">
                <a:off x="65160" y="5597280"/>
                <a:ext cx="933120" cy="30312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 flipH="1" rot="16200000">
                <a:off x="357840" y="6212880"/>
                <a:ext cx="345960" cy="934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21"/>
              <p:cNvSpPr/>
              <p:nvPr/>
            </p:nvSpPr>
            <p:spPr>
              <a:xfrm flipH="1">
                <a:off x="41400" y="6174360"/>
                <a:ext cx="933120" cy="428040"/>
              </a:xfrm>
              <a:custGeom>
                <a:avLst/>
                <a:gdLst>
                  <a:gd name="textAreaLeft" fmla="*/ 360 w 933120"/>
                  <a:gd name="textAreaRight" fmla="*/ 933840 w 93312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22"/>
              <p:cNvSpPr/>
              <p:nvPr/>
            </p:nvSpPr>
            <p:spPr>
              <a:xfrm flipH="1">
                <a:off x="40680" y="5844960"/>
                <a:ext cx="945000" cy="375480"/>
              </a:xfrm>
              <a:custGeom>
                <a:avLst/>
                <a:gdLst>
                  <a:gd name="textAreaLeft" fmla="*/ -360 w 945000"/>
                  <a:gd name="textAreaRight" fmla="*/ 945000 w 9450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Text Box 17"/>
          <p:cNvSpPr/>
          <p:nvPr/>
        </p:nvSpPr>
        <p:spPr>
          <a:xfrm>
            <a:off x="1143000" y="6337440"/>
            <a:ext cx="7772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April 2010– Credit Unit – Understanding Credit Reports – Slide </a:t>
            </a:r>
            <a:fld id="{0FD017BC-A0EA-4BD0-8E40-446E3B483DA1}" type="slidenum">
              <a:rPr b="0" lang="en-US" sz="8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Take Charge America Institute at The University of Arizo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8001000" y="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4.2.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16" descr="UA-horiz blk"/>
          <p:cNvPicPr/>
          <p:nvPr/>
        </p:nvPicPr>
        <p:blipFill>
          <a:blip r:embed="rId2"/>
          <a:stretch/>
        </p:blipFill>
        <p:spPr>
          <a:xfrm>
            <a:off x="914400" y="6400800"/>
            <a:ext cx="814320" cy="192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TCA-New-Logo-3-color"/>
          <p:cNvPicPr/>
          <p:nvPr/>
        </p:nvPicPr>
        <p:blipFill>
          <a:blip r:embed="rId3">
            <a:grayscl/>
          </a:blip>
          <a:stretch/>
        </p:blipFill>
        <p:spPr>
          <a:xfrm>
            <a:off x="8077320" y="6477120"/>
            <a:ext cx="952560" cy="18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E49-83B4-43D5-8066-373E0C440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Copperplate Gothic Light"/>
              </a:rPr>
              <a:t>Credit Report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16676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aur"/>
              </a:rPr>
              <a:t>Family Economics &amp; Financial Education</a:t>
            </a:r>
            <a:endParaRPr b="0" lang="en-US" sz="2600" spc="-1" strike="noStrike">
              <a:solidFill>
                <a:srgbClr val="000000"/>
              </a:solidFill>
              <a:latin typeface="Centaur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aur"/>
              </a:rPr>
              <a:t>Take Charge of Your Finances </a:t>
            </a:r>
            <a:endParaRPr b="0" lang="en-US" sz="26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123720" y="3428640"/>
            <a:ext cx="4038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Late or Missed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123720" y="4038480"/>
            <a:ext cx="4038840" cy="19051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am’s Electronic Worl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ast du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Occasional late paymen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counts Summa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67" name="TextBox 8"/>
          <p:cNvSpPr/>
          <p:nvPr/>
        </p:nvSpPr>
        <p:spPr>
          <a:xfrm>
            <a:off x="3200400" y="1600200"/>
            <a:ext cx="3505320" cy="131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DOES IS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HAVE ANY LATE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MISSED PAY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ON ACCOUNT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5411880" y="1981080"/>
            <a:ext cx="1217520" cy="990720"/>
          </a:xfrm>
          <a:prstGeom prst="rect">
            <a:avLst/>
          </a:prstGeom>
          <a:ln w="0">
            <a:noFill/>
          </a:ln>
        </p:spPr>
      </p:pic>
      <p:sp>
        <p:nvSpPr>
          <p:cNvPr id="869" name="Straight Connector 12"/>
          <p:cNvSpPr/>
          <p:nvPr/>
        </p:nvSpPr>
        <p:spPr>
          <a:xfrm>
            <a:off x="3124080" y="4038480"/>
            <a:ext cx="4038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066680" y="1294920"/>
            <a:ext cx="3430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ublic Record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1066680" y="1904760"/>
            <a:ext cx="34308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ccounts turned over to collection agenci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ublic record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ankruptcy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ax lie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Legal sui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reclosure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660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7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Public Record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025600" y="2174760"/>
            <a:ext cx="3660840" cy="395136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ity of Anywhere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n Collectio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74" name="Title 3"/>
          <p:cNvSpPr/>
          <p:nvPr/>
        </p:nvSpPr>
        <p:spPr>
          <a:xfrm>
            <a:off x="914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ublic record items related to cred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Box 10"/>
          <p:cNvSpPr/>
          <p:nvPr/>
        </p:nvSpPr>
        <p:spPr>
          <a:xfrm>
            <a:off x="1066680" y="4724280"/>
            <a:ext cx="3505320" cy="19227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DE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UBLIC RECORD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581280" y="5504040"/>
            <a:ext cx="914400" cy="744480"/>
          </a:xfrm>
          <a:prstGeom prst="rect">
            <a:avLst/>
          </a:prstGeom>
          <a:ln w="0">
            <a:noFill/>
          </a:ln>
        </p:spPr>
      </p:pic>
      <p:sp>
        <p:nvSpPr>
          <p:cNvPr id="877" name="Straight Connector 13"/>
          <p:cNvSpPr/>
          <p:nvPr/>
        </p:nvSpPr>
        <p:spPr>
          <a:xfrm>
            <a:off x="5029200" y="2209680"/>
            <a:ext cx="365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quir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2063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quests for an individual’s credit repor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mpleted by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surance agenc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otential credit compani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inancial institution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andlord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otential employers, etc.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5334120" y="4495680"/>
            <a:ext cx="3504960" cy="155700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NQUI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IS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ER REP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545240" y="4800600"/>
            <a:ext cx="1217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Inquir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295280" y="1523880"/>
          <a:ext cx="7696440" cy="4754520"/>
        </p:xfrm>
        <a:graphic>
          <a:graphicData uri="http://schemas.openxmlformats.org/drawingml/2006/table">
            <a:tbl>
              <a:tblPr/>
              <a:tblGrid>
                <a:gridCol w="2041560"/>
                <a:gridCol w="3089520"/>
                <a:gridCol w="25653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Not all credit inquiries are the sam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ype of inqui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ft che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rd che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o they impact your credit score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ot usu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8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dividuals checking their credit repo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card companies pre-approving individu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e-employment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9440" indent="-1094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ermission given by the individual when seeking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c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utomobile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su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grpSp>
        <p:nvGrpSpPr>
          <p:cNvPr id="884" name="TextBox 10"/>
          <p:cNvGrpSpPr/>
          <p:nvPr/>
        </p:nvGrpSpPr>
        <p:grpSpPr>
          <a:xfrm>
            <a:off x="1238400" y="5888160"/>
            <a:ext cx="7808760" cy="698040"/>
            <a:chOff x="1238400" y="5888160"/>
            <a:chExt cx="7808760" cy="698040"/>
          </a:xfrm>
        </p:grpSpPr>
        <p:pic>
          <p:nvPicPr>
            <p:cNvPr id="885" name="TextBox 10" descr=""/>
            <p:cNvPicPr/>
            <p:nvPr/>
          </p:nvPicPr>
          <p:blipFill>
            <a:blip r:embed="rId1"/>
            <a:stretch/>
          </p:blipFill>
          <p:spPr>
            <a:xfrm>
              <a:off x="1238400" y="5888160"/>
              <a:ext cx="7808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295280" y="5943600"/>
              <a:ext cx="769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aur"/>
                </a:rPr>
                <a:t>Individuals should avoid too many hard credit checks at one tim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sabella’s Repor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206360" y="1676520"/>
          <a:ext cx="7696440" cy="2468520"/>
        </p:xfrm>
        <a:graphic>
          <a:graphicData uri="http://schemas.openxmlformats.org/drawingml/2006/table">
            <a:tbl>
              <a:tblPr/>
              <a:tblGrid>
                <a:gridCol w="2041560"/>
                <a:gridCol w="3089520"/>
                <a:gridCol w="25653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nqui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ype of inqui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ft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ard che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 Very Big B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Need More Cred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Keeping You Insu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he Dream Sales J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aur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hop ‘Til You Dr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Medical Informatio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90" name="Content Placeholder 3" descr=""/>
          <p:cNvPicPr/>
          <p:nvPr/>
        </p:nvPicPr>
        <p:blipFill>
          <a:blip r:embed="rId1"/>
          <a:stretch/>
        </p:blipFill>
        <p:spPr>
          <a:xfrm>
            <a:off x="1189080" y="1657440"/>
            <a:ext cx="7808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Equal Credit Opportunity 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06000" y="1676520"/>
            <a:ext cx="740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hibits credit discrimination on the basis of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rital statu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grpSp>
        <p:nvGrpSpPr>
          <p:cNvPr id="893" name="Rectangle 9"/>
          <p:cNvGrpSpPr/>
          <p:nvPr/>
        </p:nvGrpSpPr>
        <p:grpSpPr>
          <a:xfrm>
            <a:off x="5443560" y="2571840"/>
            <a:ext cx="3505320" cy="3103920"/>
            <a:chOff x="5443560" y="2571840"/>
            <a:chExt cx="3505320" cy="3103920"/>
          </a:xfrm>
        </p:grpSpPr>
        <p:pic>
          <p:nvPicPr>
            <p:cNvPr id="894" name="Rectangle 9" descr=""/>
            <p:cNvPicPr/>
            <p:nvPr/>
          </p:nvPicPr>
          <p:blipFill>
            <a:blip r:embed="rId1"/>
            <a:stretch/>
          </p:blipFill>
          <p:spPr>
            <a:xfrm>
              <a:off x="5443560" y="2571840"/>
              <a:ext cx="350532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562720" y="2655720"/>
              <a:ext cx="3200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entaur"/>
                </a:rPr>
                <a:t>Creditors may ask for this information (except religion) in certain situations, but may not use it to discriminate when deciding whether to grant you cr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1143000" y="1494000"/>
            <a:ext cx="7620120" cy="54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thematical tool created to help a lender evaluate the risk associated with lending a consumer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ased upon information in the credit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t a particular point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umeric “grade” of a consumer’s financial reli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ed by lenders to determine a consumer’s risk of defaulting on a lo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73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36720" y="2362320"/>
            <a:ext cx="493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ost common scoring system is FICO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scores range from 300-850, with 850 being the best score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0" name="TextBox 4"/>
          <p:cNvSpPr/>
          <p:nvPr/>
        </p:nvSpPr>
        <p:spPr>
          <a:xfrm>
            <a:off x="6095880" y="2895480"/>
            <a:ext cx="274320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’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1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7620120" y="2971800"/>
            <a:ext cx="1217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Score Impac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1523880" y="1676520"/>
          <a:ext cx="7010640" cy="3022560"/>
        </p:xfrm>
        <a:graphic>
          <a:graphicData uri="http://schemas.openxmlformats.org/drawingml/2006/table">
            <a:tbl>
              <a:tblPr/>
              <a:tblGrid>
                <a:gridCol w="1752840"/>
                <a:gridCol w="1755720"/>
                <a:gridCol w="1755720"/>
                <a:gridCol w="1746360"/>
              </a:tblGrid>
              <a:tr h="7606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THIS IS BASED UPON A 30 YEAR FIXED MORTGAGE RATE FOR A $300,000 LO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solidFill>
                      <a:srgbClr val="e1e1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FICO 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Interest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Monthly Pay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30 Year Am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5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1,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643,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2,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736,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5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9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dobe Jenson Pro"/>
                        </a:rPr>
                        <a:t>$9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440">
                      <a:solidFill>
                        <a:srgbClr val="aacae2"/>
                      </a:solidFill>
                    </a:lnL>
                    <a:lnR w="1440">
                      <a:solidFill>
                        <a:srgbClr val="aacae2"/>
                      </a:solidFill>
                    </a:lnR>
                    <a:lnT w="1440">
                      <a:solidFill>
                        <a:srgbClr val="aacae2"/>
                      </a:solidFill>
                    </a:lnT>
                    <a:lnB w="1440">
                      <a:solidFill>
                        <a:srgbClr val="aaca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4" name="TextBox 4"/>
          <p:cNvSpPr/>
          <p:nvPr/>
        </p:nvSpPr>
        <p:spPr>
          <a:xfrm>
            <a:off x="1600200" y="4952880"/>
            <a:ext cx="6934320" cy="947160"/>
          </a:xfrm>
          <a:prstGeom prst="rect">
            <a:avLst/>
          </a:prstGeom>
          <a:gradFill rotWithShape="0">
            <a:gsLst>
              <a:gs pos="0">
                <a:srgbClr val="007bad"/>
              </a:gs>
              <a:gs pos="100000">
                <a:srgbClr val="00a6e9"/>
              </a:gs>
            </a:gsLst>
            <a:lin ang="16200000"/>
          </a:gradFill>
          <a:ln w="9360">
            <a:solidFill>
              <a:srgbClr val="0098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aur"/>
              </a:rPr>
              <a:t>$256,680 saved over the lifetime of this loan because of a good credit sco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 Detectiv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06000" y="1676160"/>
            <a:ext cx="4660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2"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eet Isabella, your new client: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bout to graduate from colleg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 extreme deb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oncerned about finding a job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270720" indent="-27072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oesn’t understand her credit repor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0" name="Picture 3" descr="C:\Documents and Settings\Nicole Chinadle\Local Settings\Temporary Internet Files\Content.IE5\ZCAAAMQ4\MPj04395170000[1].jpg"/>
          <p:cNvPicPr/>
          <p:nvPr/>
        </p:nvPicPr>
        <p:blipFill>
          <a:blip r:embed="rId1"/>
          <a:stretch/>
        </p:blipFill>
        <p:spPr>
          <a:xfrm>
            <a:off x="5919840" y="1981080"/>
            <a:ext cx="2814480" cy="166392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1295280" y="4343400"/>
            <a:ext cx="7467840" cy="19227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YOUR 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Help Isabella understand her credit report, identif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what she did to get into this situation, and dec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aur"/>
              </a:rPr>
              <a:t>what  she can do to improve her credit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7162920" y="4648320"/>
            <a:ext cx="15238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How Credit Scores are Determined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906" name="Content Placeholder 3" descr=""/>
          <p:cNvPicPr/>
          <p:nvPr/>
        </p:nvPicPr>
        <p:blipFill>
          <a:blip r:embed="rId1"/>
          <a:stretch/>
        </p:blipFill>
        <p:spPr>
          <a:xfrm>
            <a:off x="1139760" y="1822320"/>
            <a:ext cx="78580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aymen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timely manner in which a consumer did or did not repay deb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veral types of credit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ate or missed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ublic records and collection item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09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aymen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168520" y="1676160"/>
            <a:ext cx="3809880" cy="464796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und in status colum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ayment histo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am’s Electronic World is past du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City of Anywhere is in collection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Shop ‘Til You Drop has occasional late payments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Love to Read was closed and never lat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The Free Money Credit Card is paid on time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score impact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Too many late account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12120" indent="-312120">
              <a:spcBef>
                <a:spcPts val="4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12" name="TextBox 4"/>
          <p:cNvSpPr/>
          <p:nvPr/>
        </p:nvSpPr>
        <p:spPr>
          <a:xfrm>
            <a:off x="1066680" y="1676520"/>
            <a:ext cx="3733920" cy="8254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S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AYMENT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962520" y="1828800"/>
            <a:ext cx="655560" cy="533520"/>
          </a:xfrm>
          <a:prstGeom prst="rect">
            <a:avLst/>
          </a:prstGeom>
          <a:ln w="0">
            <a:noFill/>
          </a:ln>
        </p:spPr>
      </p:pic>
      <p:sp>
        <p:nvSpPr>
          <p:cNvPr id="914" name="TextBox 6"/>
          <p:cNvSpPr/>
          <p:nvPr/>
        </p:nvSpPr>
        <p:spPr>
          <a:xfrm>
            <a:off x="1066680" y="27432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OES THIS HAV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ER CREDIT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657600" y="2895480"/>
            <a:ext cx="10303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Outstanding Deb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total dollar amount of debt currently hel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 balances on all reported accoun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en a high percentage of debt is used, then it negatively impacts a sco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18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Outstanding Debt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5168520" y="1676520"/>
            <a:ext cx="3809880" cy="45720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otal deb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und in recent balance colum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325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vailable credi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Found in credit limit colum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546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25800" indent="-32580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$37,546-$37,325 = $221   she is using almost all her available credi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21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OW MUCH TOTAL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DEBT DOES IS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23" name="TextBox 6"/>
          <p:cNvSpPr/>
          <p:nvPr/>
        </p:nvSpPr>
        <p:spPr>
          <a:xfrm>
            <a:off x="1066680" y="312408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HOW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VAILABLE CRED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SABELLA U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787920" y="3276720"/>
            <a:ext cx="936360" cy="761760"/>
          </a:xfrm>
          <a:prstGeom prst="rect">
            <a:avLst/>
          </a:prstGeom>
          <a:ln w="0">
            <a:noFill/>
          </a:ln>
        </p:spPr>
      </p:pic>
      <p:sp>
        <p:nvSpPr>
          <p:cNvPr id="925" name="TextBox 8"/>
          <p:cNvSpPr/>
          <p:nvPr/>
        </p:nvSpPr>
        <p:spPr>
          <a:xfrm>
            <a:off x="1066680" y="457200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AT IMPAC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THIS HAVE ON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S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Picture 4" descr="C:\Documents and Settings\Nicole Chinadle\Local Settings\Temporary Internet Files\Content.IE5\249DHPEV\MCj02958730000[1].wmf"/>
          <p:cNvPicPr/>
          <p:nvPr/>
        </p:nvPicPr>
        <p:blipFill>
          <a:blip r:embed="rId3"/>
          <a:stretch/>
        </p:blipFill>
        <p:spPr>
          <a:xfrm>
            <a:off x="3787920" y="4724280"/>
            <a:ext cx="936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Length  of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20636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Length of time a consumer has held credit account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cludes how long ago credit accounts were establishe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 longer credit history will generally increase a credit scor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929" name="Content Placeholder 5" descr=""/>
          <p:cNvPicPr/>
          <p:nvPr/>
        </p:nvPicPr>
        <p:blipFill>
          <a:blip r:embed="rId1"/>
          <a:stretch/>
        </p:blipFill>
        <p:spPr>
          <a:xfrm>
            <a:off x="516888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Length of Credit Hi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5168520" y="1676520"/>
            <a:ext cx="3809880" cy="411480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redit history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ound in date opened colum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08/05 U.S. Dept. of Educ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ee Money Credit Card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core will improv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2" name="TextBox 4"/>
          <p:cNvSpPr/>
          <p:nvPr/>
        </p:nvSpPr>
        <p:spPr>
          <a:xfrm>
            <a:off x="1066680" y="1676520"/>
            <a:ext cx="37339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WHEN DID IS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IRST BEGIN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REDIT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787920" y="1828800"/>
            <a:ext cx="936360" cy="762120"/>
          </a:xfrm>
          <a:prstGeom prst="rect">
            <a:avLst/>
          </a:prstGeom>
          <a:ln w="0">
            <a:noFill/>
          </a:ln>
        </p:spPr>
      </p:pic>
      <p:sp>
        <p:nvSpPr>
          <p:cNvPr id="934" name="TextBox 6"/>
          <p:cNvSpPr/>
          <p:nvPr/>
        </p:nvSpPr>
        <p:spPr>
          <a:xfrm>
            <a:off x="1066680" y="3048120"/>
            <a:ext cx="3733920" cy="265428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F ISABELLA KEEPS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REE MONEY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CARD OPE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ANOTHER 10 YEARS AND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OFF THE BALANCE, WHAT WILL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3886200" y="3200400"/>
            <a:ext cx="8380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The Credit Proces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24" name="Content Placeholder 4" descr=""/>
          <p:cNvPicPr/>
          <p:nvPr/>
        </p:nvPicPr>
        <p:blipFill>
          <a:blip r:embed="rId1"/>
          <a:stretch/>
        </p:blipFill>
        <p:spPr>
          <a:xfrm>
            <a:off x="1152360" y="2359080"/>
            <a:ext cx="8015400" cy="39495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"/>
          <p:cNvSpPr/>
          <p:nvPr/>
        </p:nvSpPr>
        <p:spPr>
          <a:xfrm>
            <a:off x="1143000" y="1523880"/>
            <a:ext cx="75438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aur"/>
              </a:rPr>
              <a:t>Credit</a:t>
            </a:r>
            <a:r>
              <a:rPr b="0" lang="en-US" sz="2200" spc="-1" strike="noStrike">
                <a:solidFill>
                  <a:srgbClr val="000000"/>
                </a:solidFill>
                <a:latin typeface="Centaur"/>
              </a:rPr>
              <a:t> – when goods, services, and/or money are received in exchange for a promise to pay back a definite sum of money at a future da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sabella’s Sto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20636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is your analysis of her situation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es she need your help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28" name="Picture 3" descr="C:\Documents and Settings\Nicole Chinadle\Local Settings\Temporary Internet Files\Content.IE5\ZCAAAMQ4\MPj04395170000[1].jpg"/>
          <p:cNvPicPr/>
          <p:nvPr/>
        </p:nvPicPr>
        <p:blipFill>
          <a:blip r:embed="rId1"/>
          <a:stretch/>
        </p:blipFill>
        <p:spPr>
          <a:xfrm>
            <a:off x="6095880" y="1752480"/>
            <a:ext cx="2814840" cy="16639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" descr="C:\Documents and Settings\Nicole Chinadle\Local Settings\Temporary Internet Files\Content.IE5\249DHPEV\MCj02958730000[1].wmf"/>
          <p:cNvPicPr/>
          <p:nvPr/>
        </p:nvPicPr>
        <p:blipFill>
          <a:blip r:embed="rId2"/>
          <a:stretch/>
        </p:blipFill>
        <p:spPr>
          <a:xfrm>
            <a:off x="7391520" y="4495680"/>
            <a:ext cx="1523880" cy="12398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13"/>
          <p:cNvSpPr/>
          <p:nvPr/>
        </p:nvSpPr>
        <p:spPr>
          <a:xfrm>
            <a:off x="1447920" y="1787400"/>
            <a:ext cx="403848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 SMALL GROU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aur"/>
              </a:rPr>
              <a:t>READ ISABELLA’S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History Reporting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pic>
        <p:nvPicPr>
          <p:cNvPr id="832" name="Content Placeholder 3" descr=""/>
          <p:cNvPicPr/>
          <p:nvPr/>
        </p:nvPicPr>
        <p:blipFill>
          <a:blip r:embed="rId1"/>
          <a:stretch/>
        </p:blipFill>
        <p:spPr>
          <a:xfrm>
            <a:off x="2011320" y="1865160"/>
            <a:ext cx="7016760" cy="4230720"/>
          </a:xfrm>
          <a:prstGeom prst="rect">
            <a:avLst/>
          </a:prstGeom>
          <a:ln w="0">
            <a:noFill/>
          </a:ln>
        </p:spPr>
      </p:pic>
      <p:grpSp>
        <p:nvGrpSpPr>
          <p:cNvPr id="833" name="TextBox 4"/>
          <p:cNvGrpSpPr/>
          <p:nvPr/>
        </p:nvGrpSpPr>
        <p:grpSpPr>
          <a:xfrm>
            <a:off x="-146160" y="3297240"/>
            <a:ext cx="2340000" cy="1039320"/>
            <a:chOff x="-146160" y="3297240"/>
            <a:chExt cx="2340000" cy="1039320"/>
          </a:xfrm>
        </p:grpSpPr>
        <p:pic>
          <p:nvPicPr>
            <p:cNvPr id="834" name="TextBox 4" descr=""/>
            <p:cNvPicPr/>
            <p:nvPr/>
          </p:nvPicPr>
          <p:blipFill>
            <a:blip r:embed="rId2"/>
            <a:stretch/>
          </p:blipFill>
          <p:spPr>
            <a:xfrm>
              <a:off x="-146160" y="3297240"/>
              <a:ext cx="2340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0" y="3389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aur"/>
                </a:rPr>
                <a:t>What they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TextBox 5"/>
          <p:cNvGrpSpPr/>
          <p:nvPr/>
        </p:nvGrpSpPr>
        <p:grpSpPr>
          <a:xfrm>
            <a:off x="-60480" y="4591080"/>
            <a:ext cx="2175120" cy="1467360"/>
            <a:chOff x="-60480" y="4591080"/>
            <a:chExt cx="2175120" cy="1467360"/>
          </a:xfrm>
        </p:grpSpPr>
        <p:pic>
          <p:nvPicPr>
            <p:cNvPr id="837" name="TextBox 5" descr=""/>
            <p:cNvPicPr/>
            <p:nvPr/>
          </p:nvPicPr>
          <p:blipFill>
            <a:blip r:embed="rId3"/>
            <a:stretch/>
          </p:blipFill>
          <p:spPr>
            <a:xfrm>
              <a:off x="-60480" y="4591080"/>
              <a:ext cx="2175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0" y="4684680"/>
              <a:ext cx="2057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entaur"/>
                </a:rPr>
                <a:t>Additional In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Right Arrow 6"/>
          <p:cNvGrpSpPr/>
          <p:nvPr/>
        </p:nvGrpSpPr>
        <p:grpSpPr>
          <a:xfrm>
            <a:off x="2225520" y="5803920"/>
            <a:ext cx="6747120" cy="596880"/>
            <a:chOff x="2225520" y="5803920"/>
            <a:chExt cx="6747120" cy="596880"/>
          </a:xfrm>
        </p:grpSpPr>
        <p:pic>
          <p:nvPicPr>
            <p:cNvPr id="840" name="Right Arrow 6" descr=""/>
            <p:cNvPicPr/>
            <p:nvPr/>
          </p:nvPicPr>
          <p:blipFill>
            <a:blip r:embed="rId4"/>
            <a:stretch/>
          </p:blipFill>
          <p:spPr>
            <a:xfrm>
              <a:off x="2225520" y="5803920"/>
              <a:ext cx="67471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2286000" y="5961240"/>
              <a:ext cx="6508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ing Agencies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20636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cquire information from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844" name="Diagram 3" descr=""/>
          <p:cNvPicPr/>
          <p:nvPr/>
        </p:nvPicPr>
        <p:blipFill>
          <a:blip r:embed="rId1"/>
          <a:stretch/>
        </p:blipFill>
        <p:spPr>
          <a:xfrm>
            <a:off x="1365120" y="2266920"/>
            <a:ext cx="710244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120636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formation can be divided into 4 categories: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ccounts Summary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ublic record items related to credi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redit Inquiries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6" name="Title 3"/>
          <p:cNvSpPr/>
          <p:nvPr/>
        </p:nvSpPr>
        <p:spPr>
          <a:xfrm>
            <a:off x="914400" y="2746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Information in a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Credit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1295280" y="4876920"/>
            <a:ext cx="7467840" cy="155700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Lender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aur"/>
              </a:rPr>
              <a:t>may or may not</a:t>
            </a: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 report information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ll three credit reporting ag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aur"/>
              </a:rPr>
              <a:t>An individual’s information may be different in each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Personal Information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Personal Inform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37720" y="2285640"/>
            <a:ext cx="3659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Name and alia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urrent and past addresse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ocial security number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ate of birth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mployment histor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8000" y="1645920"/>
            <a:ext cx="411480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Personal Information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788000" y="2285640"/>
            <a:ext cx="4114800" cy="380988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Name – Isabella G. Langley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Addresses – 101 Hopeful Ave. &amp; 695 Parent Street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Date of birth – 05/04/86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Telephone numbers –           555-354-2368 &amp; 555-198-2358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  <a:p>
            <a:pPr marL="322200" indent="-322200">
              <a:spcBef>
                <a:spcPts val="575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aur"/>
              </a:rPr>
              <a:t>Employers – Lucky’s Restaurant &amp; Jane’s Daycare</a:t>
            </a:r>
            <a:endParaRPr b="0" lang="en-US" sz="23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3" name="TextBox 14"/>
          <p:cNvSpPr/>
          <p:nvPr/>
        </p:nvSpPr>
        <p:spPr>
          <a:xfrm>
            <a:off x="1066680" y="4952880"/>
            <a:ext cx="3505320" cy="11912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FIND ISABELL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PERS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aur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200400" y="5105520"/>
            <a:ext cx="1217520" cy="990360"/>
          </a:xfrm>
          <a:prstGeom prst="rect">
            <a:avLst/>
          </a:prstGeom>
          <a:ln w="0">
            <a:noFill/>
          </a:ln>
        </p:spPr>
      </p:pic>
      <p:sp>
        <p:nvSpPr>
          <p:cNvPr id="855" name="Straight Connector 17"/>
          <p:cNvSpPr/>
          <p:nvPr/>
        </p:nvSpPr>
        <p:spPr>
          <a:xfrm>
            <a:off x="5029200" y="228600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Accounts Summary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90360" y="1523880"/>
            <a:ext cx="3506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ypes of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ate the account was opene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redit limit or loan amoun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ccount balanc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ayment history, including missed or late payme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2520" y="1218960"/>
            <a:ext cx="4038840" cy="6397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aur"/>
              </a:rPr>
              <a:t>Isabella’s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952520" y="1828440"/>
            <a:ext cx="4038840" cy="4297320"/>
          </a:xfrm>
          <a:prstGeom prst="rect">
            <a:avLst/>
          </a:prstGeom>
          <a:solidFill>
            <a:srgbClr val="ddeaf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am’s Electronic Worl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City of Anywhere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U.S. Department of Educatio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inancial Institution School Loan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hop ‘Til You Drop 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ve to Read Store Credit Card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 Free Money Credit Card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title"/>
          </p:nvPr>
        </p:nvSpPr>
        <p:spPr>
          <a:xfrm>
            <a:off x="91404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pperplate Gothic Light"/>
              </a:rPr>
              <a:t>Accounts Summary</a:t>
            </a:r>
            <a:endParaRPr b="0" lang="en-US" sz="4400" spc="-1" strike="noStrike">
              <a:solidFill>
                <a:srgbClr val="003366"/>
              </a:solidFill>
              <a:latin typeface="Copperplate Gothic Light"/>
            </a:endParaRPr>
          </a:p>
        </p:txBody>
      </p:sp>
      <p:sp>
        <p:nvSpPr>
          <p:cNvPr id="861" name="TextBox 8"/>
          <p:cNvSpPr/>
          <p:nvPr/>
        </p:nvSpPr>
        <p:spPr>
          <a:xfrm>
            <a:off x="1066680" y="4876920"/>
            <a:ext cx="3505320" cy="13136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WHAT LE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DOES ISAB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HAVE ACCOU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aur"/>
              </a:rPr>
              <a:t>WI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4" descr="C:\Documents and Settings\Nicole Chinadle\Local Settings\Temporary Internet Files\Content.IE5\249DHPEV\MCj02958730000[1].wmf"/>
          <p:cNvPicPr/>
          <p:nvPr/>
        </p:nvPicPr>
        <p:blipFill>
          <a:blip r:embed="rId1"/>
          <a:stretch/>
        </p:blipFill>
        <p:spPr>
          <a:xfrm>
            <a:off x="3278160" y="5257800"/>
            <a:ext cx="1217520" cy="990720"/>
          </a:xfrm>
          <a:prstGeom prst="rect">
            <a:avLst/>
          </a:prstGeom>
          <a:ln w="0">
            <a:noFill/>
          </a:ln>
        </p:spPr>
      </p:pic>
      <p:sp>
        <p:nvSpPr>
          <p:cNvPr id="863" name="Straight Connector 12"/>
          <p:cNvSpPr/>
          <p:nvPr/>
        </p:nvSpPr>
        <p:spPr>
          <a:xfrm>
            <a:off x="4952880" y="1828800"/>
            <a:ext cx="403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1:30:39Z</dcterms:created>
  <dc:creator>itcmaint</dc:creator>
  <dc:description/>
  <dc:language>en-US</dc:language>
  <cp:lastModifiedBy>NHBOE</cp:lastModifiedBy>
  <dcterms:modified xsi:type="dcterms:W3CDTF">2012-03-09T12:39:22Z</dcterms:modified>
  <cp:revision>1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11033</vt:lpwstr>
  </property>
</Properties>
</file>